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AEC-2506-4341-BA0F-C97994A3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74B-0D6C-4438-961E-8520A4C8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B45-2471-4DBA-8344-B3AEA040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DD7-D880-4D72-985C-79C5513E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822-3690-46C4-8366-B4CCC065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321-DC38-4236-A38A-808D3B7F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EC5-A66B-4B8E-B5DE-2B836F5D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0BF-C287-4040-A8CE-7BEDD223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699-84B7-47C3-AFD8-5034A091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41C-9D98-47DF-AE3D-437A0DA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3EF-A939-4B6C-B2F7-CD62D58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F9C-B465-4DB9-84F0-3181FA16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54C2-CEFE-46FD-A2AE-A1DDCBF7F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slide" Target="slide8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808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ans of Geor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Jorge Luis Moretti Gonzales Orbeg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5-Point Star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74680" y="-274680"/>
            <a:ext cx="2914560" cy="2676600"/>
          </a:xfrm>
          <a:prstGeom prst="rect">
            <a:avLst/>
          </a:prstGeom>
          <a:ln w="0">
            <a:noFill/>
          </a:ln>
        </p:spPr>
      </p:pic>
      <p:pic>
        <p:nvPicPr>
          <p:cNvPr id="44" name="Lightning Bolt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98800" y="-128520"/>
            <a:ext cx="6273720" cy="3610080"/>
          </a:xfrm>
          <a:prstGeom prst="rect">
            <a:avLst/>
          </a:prstGeom>
          <a:ln w="0">
            <a:noFill/>
          </a:ln>
        </p:spPr>
      </p:pic>
      <p:pic>
        <p:nvPicPr>
          <p:cNvPr id="45" name="Sun 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128520" y="3376440"/>
            <a:ext cx="3762360" cy="3610080"/>
          </a:xfrm>
          <a:prstGeom prst="rect">
            <a:avLst/>
          </a:prstGeom>
          <a:ln w="0">
            <a:noFill/>
          </a:ln>
        </p:spPr>
      </p:pic>
      <p:pic>
        <p:nvPicPr>
          <p:cNvPr id="46" name="Explosion 2 7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52920" y="3865680"/>
            <a:ext cx="48402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http://thedarkblade.com/wp-content/uploads/atlatl-throw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the earliest known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named the Paleolithic or Old Stone Age because the tools &amp; weapons were made of st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reated a tool called the atlatl – a smooth stone s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tlatl was used for a long time af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they’re gen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>
            <a:hlinkClick r:id="rId2" action="ppaction://hlinksldjump"/>
          </p:cNvPr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a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>
            <a:hlinkClick r:id="rId1" action="ppaction://hlinksldjump"/>
          </p:cNvPr>
          <p:cNvSpPr/>
          <p:nvPr/>
        </p:nvSpPr>
        <p:spPr>
          <a:xfrm>
            <a:off x="2514600" y="228600"/>
            <a:ext cx="1219320" cy="23623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>
            <a:hlinkClick r:id="rId2" action="ppaction://hlinksldjump"/>
          </p:cNvPr>
          <p:cNvSpPr/>
          <p:nvPr/>
        </p:nvSpPr>
        <p:spPr>
          <a:xfrm>
            <a:off x="5410080" y="228600"/>
            <a:ext cx="1219320" cy="23623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oon 5">
            <a:hlinkClick r:id="rId3" action="ppaction://hlinksldjump"/>
          </p:cNvPr>
          <p:cNvSpPr/>
          <p:nvPr/>
        </p:nvSpPr>
        <p:spPr>
          <a:xfrm rot="16200000">
            <a:off x="3200400" y="3047760"/>
            <a:ext cx="2590920" cy="380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972" y="1856"/>
                  <a:pt x="10343" y="5080"/>
                  <a:pt x="10343" y="10800"/>
                </a:cubicBezTo>
                <a:cubicBezTo>
                  <a:pt x="10343" y="16520"/>
                  <a:pt x="15972" y="197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276720" y="5257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sosceles Triangle 7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>
            <a:hlinkClick r:id="rId4" action="ppaction://hlinksldjump"/>
          </p:cNvPr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http://www.texasbeyondhistory.net/pecos/images/M2-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from 8000 B.C – 5000B.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tarted off hunting giant animals then ended up hunting smaller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y started hunting smaller animals, they created smaller weap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>
            <a:hlinkClick r:id="rId2" action="ppaction://hlinksldjump"/>
          </p:cNvPr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http://www.virtualmuseum.ca/Exhibitions/Spirits/Images/Timeline/people8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from 5000 B.C – 4000 B.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is was after the ice age, the climate was warmer and dr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water receded which allowed them to invent fis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dition because of this they didn’t move around as m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>
            <a:hlinkClick r:id="rId2" action="ppaction://hlinksldjump"/>
          </p:cNvPr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http://t3.gstatic.com/images?q=tbn:CWUjOxVeJqAYoM:http://www.virtualmuseum.ca/Exhibitions/Spirits/Images/Timeline/people45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from 4000 B.C – 1000 B.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eople started creating permeate sett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lso created two things a grooved axe to clear trees an bushes, &amp; they created a clay container for storing cooking and to serv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http://theforts.org/mod/cms/images/indian_lodge.jpg"/>
          <p:cNvPicPr/>
          <p:nvPr/>
        </p:nvPicPr>
        <p:blipFill>
          <a:blip r:embed="rId1"/>
          <a:stretch/>
        </p:blipFill>
        <p:spPr>
          <a:xfrm>
            <a:off x="0" y="-136440"/>
            <a:ext cx="9175680" cy="6994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ived from 1000 B.C – 1000 A.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se nomadic herders began to form tribes at this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so they were creators of religions, the bow &amp; arrow, and far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 addition to religion they created large cone shaped burial mounds for the d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http://www.visitbaycity.org/history/cvb/Bart1Karankawa%20Indi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issipp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from 700 A.D – 1600 A.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got their name because they were located at the Mississippi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772400" y="5334120"/>
            <a:ext cx="1143000" cy="1371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sosceles Triangle 4"/>
          <p:cNvSpPr/>
          <p:nvPr/>
        </p:nvSpPr>
        <p:spPr>
          <a:xfrm>
            <a:off x="7772400" y="4800600"/>
            <a:ext cx="1143000" cy="53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1:40Z</dcterms:created>
  <dc:creator>200178858</dc:creator>
  <dc:description/>
  <dc:language>en-US</dc:language>
  <cp:lastModifiedBy>200178858</cp:lastModifiedBy>
  <dcterms:modified xsi:type="dcterms:W3CDTF">2010-09-16T13:29:21Z</dcterms:modified>
  <cp:revision>8</cp:revision>
  <dc:subject/>
  <dc:title>Indians of Georgia</dc:title>
</cp:coreProperties>
</file>